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244-E86E-4B86-9055-454D832F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138-5A1E-4700-9A44-81256205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E83-3067-4FD9-8598-556673F6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943-FF2A-4D59-97CA-9F4BBB5B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7D0-F43D-45F8-AF3B-A987DC6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29F-BE03-4FF7-9B55-47025B75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B60-12B6-4A3C-A98E-8702525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980-2560-45B2-A46F-10091569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018-B156-4E73-B11B-C6AAF2C7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213-6918-47F2-BCF0-47DDC67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5E1-3190-4E57-AB21-36616468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CB5-2420-4895-B69B-B987DAE6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513-B989-456B-BD1C-E43B1A16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648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4989600"/>
            <a:ext cx="25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Camryn I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5/11/11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Period7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roadway"/>
              </a:rPr>
              <a:t>Computer#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2280"/>
            <a:ext cx="8229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Chocolate Chip Cook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57800" y="373392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Invented by: Ruth Wake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560" y="6248520"/>
            <a:ext cx="63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/1/11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Wakefield"/>
          <p:cNvPicPr/>
          <p:nvPr/>
        </p:nvPicPr>
        <p:blipFill>
          <a:blip r:embed="rId1"/>
          <a:stretch/>
        </p:blipFill>
        <p:spPr>
          <a:xfrm>
            <a:off x="762120" y="380880"/>
            <a:ext cx="220968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Wakefield"/>
          <p:cNvPicPr/>
          <p:nvPr/>
        </p:nvPicPr>
        <p:blipFill>
          <a:blip r:embed="rId2"/>
          <a:srcRect l="25008" t="0" r="0" b="0"/>
          <a:stretch/>
        </p:blipFill>
        <p:spPr>
          <a:xfrm>
            <a:off x="2971800" y="380880"/>
            <a:ext cx="4800600" cy="33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70160" y="4684680"/>
            <a:ext cx="557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4419720"/>
            <a:ext cx="51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Inventor: Ruth Wak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Her full name is Ruth Graves Wake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She graduated from Framingham State Normal School Department of Household Arts in 19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After graduation, she worked as a dietitian and food lect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Ruth and her husband purchased a Cape Cod-Style Toll House located halfway between Boston and New Bedf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Ruth died in 197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49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nvention: Chocolate Chip Cook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’s favorite recipe was for Butter Drop Do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he ran out of baker’s chocolate while making the cook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he found a semi-sweet chocolate bar, given to her by Andrew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 cut the chocolate into tiny pieces, thinking it would melt, but the chocolate kept its shape and became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The cookies became very popular and also, it was published in the Boston news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Nestle had an idea to cut the chocolate bar into small mor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Ruth and her husband sold the house in 1996, to a family that tried to turn the Toll House into a night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In 1970, the Saccone family who turned the Toll House back to its origin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The Toll House burned down in 1984 on New Years 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8:50Z</dcterms:created>
  <dc:creator>install</dc:creator>
  <dc:description/>
  <dc:language>en-US</dc:language>
  <cp:lastModifiedBy>install</cp:lastModifiedBy>
  <dcterms:modified xsi:type="dcterms:W3CDTF">2011-06-01T17:37:58Z</dcterms:modified>
  <cp:revision>9</cp:revision>
  <dc:subject/>
  <dc:title>Slide 1</dc:title>
</cp:coreProperties>
</file>